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66795"/>
        <c:axId val="5648004"/>
      </c:barChart>
      <c:catAx>
        <c:axId val="36566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8004"/>
        <c:crosses val="autoZero"/>
        <c:auto val="1"/>
        <c:lblAlgn val="ctr"/>
        <c:lblOffset val="100"/>
        <c:noMultiLvlLbl val="0"/>
      </c:catAx>
      <c:valAx>
        <c:axId val="5648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66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347-0935-4892-86A2-DEA09BE2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BFA-31CA-441D-94FA-B880E43F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C14-F94C-4F65-BDB7-1DDDF269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8AF-2AAA-43C5-A06D-8A75D23D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5C9-2D99-4D33-B85B-C4127E69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EE2-BDCB-4FF4-8A54-3D3845B1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659-412A-4094-B513-E0C3227E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097-C232-4F24-AAF5-FCBCDD81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38A-B47A-47D0-9928-7F7CD09F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924-C0BF-49A0-B158-DA68D9A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83B-510B-46F1-9878-6FAF6E1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43F-21BD-427C-9A24-F8FFB262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CA844-473C-4A02-AEDB-C854DF8FD9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