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612803"/>
        <c:axId val="97091354"/>
      </c:barChart>
      <c:catAx>
        <c:axId val="916128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91354"/>
        <c:crosses val="autoZero"/>
        <c:auto val="1"/>
        <c:lblAlgn val="ctr"/>
        <c:lblOffset val="100"/>
        <c:noMultiLvlLbl val="0"/>
      </c:catAx>
      <c:valAx>
        <c:axId val="970913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128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F32D-645F-4C0D-A2D1-4A9EAAAC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6B02-BBB9-4778-BEC6-438C9F5A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A9CF-1430-4B72-A69C-885E3D61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8DF3-DEAC-4D35-A67E-36B3C07C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C777-2DEB-4600-921C-791230BF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263D-011C-4A9C-8197-ED0A1B9A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78A5-DB11-4637-BBD7-F2706E08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7953-E185-42FB-AF3E-730BBD44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2062-F4E3-4F20-A3D4-E5557AC9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371-7763-4675-9A19-DA92A388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BE99-68F2-42AE-90F0-DFED8065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CF8-D9AD-440C-87B6-6498BD7E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C0531-DDBA-4819-93E5-D492E54E4E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