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8513"/>
        <c:axId val="51563745"/>
      </c:barChart>
      <c:catAx>
        <c:axId val="3078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63745"/>
        <c:crosses val="autoZero"/>
        <c:auto val="1"/>
        <c:lblAlgn val="ctr"/>
        <c:lblOffset val="100"/>
        <c:noMultiLvlLbl val="0"/>
      </c:catAx>
      <c:valAx>
        <c:axId val="51563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8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B46-0BB0-464F-B06B-77E9A26C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D81-0332-46B3-9237-05B5777F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A6C-EA76-4ECD-8FBC-56F216A8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176-6DDB-47C0-9464-D7E6C848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AF0-C056-4D4C-ABF8-D4497812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8B7-E27A-470E-B1EA-BC55C275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1DF-83B7-482E-8FB4-3AE64B2A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642-3B19-43F2-9D6A-1C143D44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84C-7877-4EAF-B850-5876584A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611-BCBF-4C64-BE2D-014B57AE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798-250E-4D24-BEF2-2050B2BE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C19-EF55-4020-8758-6F5F48E3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5F1F4-F667-4230-A0B5-2015A116BE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