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66908"/>
        <c:axId val="27428530"/>
      </c:barChart>
      <c:catAx>
        <c:axId val="951669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28530"/>
        <c:crosses val="autoZero"/>
        <c:auto val="1"/>
        <c:lblAlgn val="ctr"/>
        <c:lblOffset val="100"/>
        <c:noMultiLvlLbl val="0"/>
      </c:catAx>
      <c:valAx>
        <c:axId val="274285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669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2CBC-07E1-42DC-A2EF-5CE05F33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275B-55E3-42BD-8D74-B5AD8F1E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49E7-911F-423F-B743-6F571C36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8836-D639-492F-883D-9F678EAF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B40-55DE-4452-B28B-9A43D3D4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DCA-B07F-43BA-AC31-FAA6D6EC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55B-1F53-4B08-8E5D-348D65B2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6B9-98D2-4BBB-B5CE-1EB1F5D5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6D44-53D9-47F9-8288-028653BA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F84-36C2-4326-8E73-AFAF51B4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0BF-CC5D-45FC-A53E-4BF7611E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A74-5492-4746-9C8E-CCAE2CBA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5DB17-7E11-4C55-B83A-ED0CCD4928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