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646214"/>
        <c:axId val="18268572"/>
      </c:barChart>
      <c:catAx>
        <c:axId val="796462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68572"/>
        <c:crosses val="autoZero"/>
        <c:auto val="1"/>
        <c:lblAlgn val="ctr"/>
        <c:lblOffset val="100"/>
        <c:noMultiLvlLbl val="0"/>
      </c:catAx>
      <c:valAx>
        <c:axId val="182685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462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27B9-DE4D-41C2-994B-E4C3D8ED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02FC-CBA3-49F8-AE7B-48FB9801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4EC5-9F10-48B3-AB24-00575A67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C222-C822-4F2F-861F-38BCC3BF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1320-90E0-40E6-BFE0-DC36A8EB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0718-F22B-4854-95CC-2C0EAD70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6210-7200-4E5F-9B11-CABFB93D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8F0B-8F5D-456E-89BA-48256D7E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7A1A-02C9-4F26-B48F-5724B086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6955-D00A-487A-9168-659CB520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CC5E-452F-4003-BB55-E6F66ABC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144F-CDDB-48CA-B66D-15F10E10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05D94-DA21-4C79-BE31-30404163D0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