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24438"/>
        <c:axId val="54199750"/>
      </c:barChart>
      <c:catAx>
        <c:axId val="49224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9750"/>
        <c:crosses val="autoZero"/>
        <c:auto val="1"/>
        <c:lblAlgn val="ctr"/>
        <c:lblOffset val="100"/>
        <c:noMultiLvlLbl val="0"/>
      </c:catAx>
      <c:valAx>
        <c:axId val="54199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24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2C9-D685-4FF2-BAC7-B3374960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EC4-67BD-4F83-83E0-089E8CC5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EA5-B4C0-4433-9E99-EA314DD4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E6C-CBBA-49F9-B86F-8CAF9C8C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1AA-1D77-4231-9825-40E98B7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745-04A3-44DA-9CC7-5E9335D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3B0-4543-4367-9459-ACE9D26D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E11-6F01-4D25-9FBE-5BFFE9F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AEF-7625-448A-A3B6-2A8E4E8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5AD-FB99-416D-BA01-9F8B25E5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4C1-342B-4D77-868C-FE7D9E0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B64-9728-4F25-B381-F2587C6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0EA4-A01A-47F1-9665-C0844806C9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