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96464"/>
        <c:axId val="73592800"/>
      </c:barChart>
      <c:catAx>
        <c:axId val="83996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92800"/>
        <c:crosses val="autoZero"/>
        <c:auto val="1"/>
        <c:lblAlgn val="ctr"/>
        <c:lblOffset val="100"/>
        <c:noMultiLvlLbl val="0"/>
      </c:catAx>
      <c:valAx>
        <c:axId val="73592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96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9CB-3452-4456-885D-E5F1434B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28B-A1F0-4B44-B930-99B5D920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61EC-605D-417A-9CAB-851A3218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669-04B9-4977-B175-2C95CDC3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0A7-5B7D-4575-A69F-8FB778EE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E15-8891-4286-8D2B-C207386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76D-0CFA-42FC-BAD7-82ED772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1F2-3F88-416A-A938-6079746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001-B52D-4C03-81D4-BCA918AF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A40-F033-4767-B25F-C9D64FF1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F99-0C0D-4BFC-8AA2-26865494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062-54FF-4C9E-B4BA-6D05FE89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FFA92-5C46-4257-88E1-8EB9FD0024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