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82994"/>
        <c:axId val="11358948"/>
      </c:barChart>
      <c:catAx>
        <c:axId val="915829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58948"/>
        <c:crosses val="autoZero"/>
        <c:auto val="1"/>
        <c:lblAlgn val="ctr"/>
        <c:lblOffset val="100"/>
        <c:noMultiLvlLbl val="0"/>
      </c:catAx>
      <c:valAx>
        <c:axId val="113589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829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5A97-4108-4FED-9638-9D0AB2AB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08B7-D310-4C77-9551-5E4FD282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5927-53F1-4B77-9EB5-A3D80AE1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626F-5166-4494-B63C-80A380B6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CDA-1A33-4C62-A319-53ACCE60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74B7-2997-42C0-B438-9B6BEA41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8E6E-CF28-48CF-8245-0829AC4D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4143-5C47-4981-B136-69FC646A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9302-1E4A-4502-94C2-15610194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544-53C8-4238-B488-178BBC14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F00B-3E44-421A-B294-02C4270F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2046-7325-4B60-A2C9-7D171410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2DEF9-0AE7-4E6A-97BD-518DCF4571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