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8647"/>
        <c:axId val="27726999"/>
      </c:barChart>
      <c:catAx>
        <c:axId val="42658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26999"/>
        <c:crosses val="autoZero"/>
        <c:auto val="1"/>
        <c:lblAlgn val="ctr"/>
        <c:lblOffset val="100"/>
        <c:noMultiLvlLbl val="0"/>
      </c:catAx>
      <c:valAx>
        <c:axId val="27726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8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398-41A4-47AE-BE9F-416FE888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C01-7079-4240-AE60-BF730B83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52E-5659-44B3-9C9E-1CD796EA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02A-F3D6-402D-8872-A15FBE78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ADF-DA36-4E75-A9F1-DEFBC437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FBA-872D-42E8-B2D2-7274C590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E77-91FF-410A-BFC5-23B76DF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A58-A110-4E44-B1F5-58785912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628-2B23-44A0-BFEC-EC5DAECB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7F7-B0FC-472D-8E88-35C6046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78B-A42A-4BB9-8F44-A996A20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838-B360-42E6-B4CD-BB1CC1D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79FF0-9193-43C6-BB48-1FC43C3F3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