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153845"/>
        <c:axId val="93760756"/>
      </c:barChart>
      <c:catAx>
        <c:axId val="181538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60756"/>
        <c:crosses val="autoZero"/>
        <c:auto val="1"/>
        <c:lblAlgn val="ctr"/>
        <c:lblOffset val="100"/>
        <c:noMultiLvlLbl val="0"/>
      </c:catAx>
      <c:valAx>
        <c:axId val="93760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538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4AB8-1B39-48EF-B036-0F6EE2E9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477D-2151-46A3-B99F-464183A5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51D0-0EFD-4A89-A21F-34183C9A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6E67-5826-45DF-92AA-E668F219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C1D-AEEC-46D9-AB04-EAD8EE73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A51B-3626-4AD5-A8AB-7216E243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20EA-CCD4-41DF-B855-A334A273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6E12-E0FC-4B63-9F13-DF4EB67A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67FA-9F1A-4A7F-BBAC-91DBF73B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E28F-28BB-4FDD-8A46-E6A06F08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6051-6EBA-4619-868B-80C4268D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9ECC-1CF5-42AC-8277-D89E70FF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A092F-3452-44F8-8C04-DAA99DCBF1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