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44011"/>
        <c:axId val="38796404"/>
      </c:barChart>
      <c:catAx>
        <c:axId val="70544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96404"/>
        <c:crosses val="autoZero"/>
        <c:auto val="1"/>
        <c:lblAlgn val="ctr"/>
        <c:lblOffset val="100"/>
        <c:noMultiLvlLbl val="0"/>
      </c:catAx>
      <c:valAx>
        <c:axId val="38796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44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69C-2D34-4BA4-8CAA-EBA1AE44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2BC-7C37-46B4-ADE2-B226FD38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06B-2A87-4E29-81E4-94DFA7BD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0C8-3E76-4973-9BD4-B8EB537E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298-E47C-4E7C-8682-815F6AC4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34A-37FF-4B20-ABCE-F8F06E3F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74D-F136-4841-8E16-FE127CE8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73D-2CE0-49D9-B943-D3D3A51D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137-DF8A-41FA-A730-9C3F2066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C79-190B-467C-92E4-875CFA64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291-DA1E-4E8B-A623-001130BF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AEE-DFEF-47F5-BF08-4E3B5482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638B5-2BE0-4BCD-9D72-794CBBABE1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