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85211"/>
        <c:axId val="34012658"/>
      </c:barChart>
      <c:catAx>
        <c:axId val="21185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12658"/>
        <c:crosses val="autoZero"/>
        <c:auto val="1"/>
        <c:lblAlgn val="ctr"/>
        <c:lblOffset val="100"/>
        <c:noMultiLvlLbl val="0"/>
      </c:catAx>
      <c:valAx>
        <c:axId val="34012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85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72A-D701-48F0-A43D-B6026D73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4EC-B19C-4304-A85B-C9E054B8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2F6-B625-4EA2-A35E-4C0A3860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322-802D-4DE1-9EBE-EACA594D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0CE-4DC7-49C3-85E7-80FC76E8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CC4-3E2A-40C4-8DEC-0D1A48CA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D30-4B70-479A-8F92-8D124A55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FBB-AAD0-435F-A4B9-077B3D5B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FB4-3851-42EA-B548-0E80F367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3E0-53F4-478C-A357-7D4A8B3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9F5-A685-4AEA-A62C-AEC257A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FC1-408A-466A-9662-F3BC814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45D27-1592-43CC-A021-F9D54C40B9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