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55945"/>
        <c:axId val="30233614"/>
      </c:barChart>
      <c:catAx>
        <c:axId val="18255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33614"/>
        <c:crosses val="autoZero"/>
        <c:auto val="1"/>
        <c:lblAlgn val="ctr"/>
        <c:lblOffset val="100"/>
        <c:noMultiLvlLbl val="0"/>
      </c:catAx>
      <c:valAx>
        <c:axId val="30233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55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5A6-4604-430B-9A9A-4CDD7D58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AC7-DC61-4D71-89B2-E557A79C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D7F-1A6F-44EF-BE2E-61601B62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83E-7153-4835-8597-B11E7373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86F-5D2A-4747-BE49-3C587C67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15F-4FF2-40E8-BCE0-A5A987E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4CF-AE2C-4DAC-934F-AC8BEC2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44B-9363-4F01-AE8A-5DFE2AD1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A4B-C532-468D-99BD-6BA9EF13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2D1-22D5-47DD-9441-C8AFAAE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487-F88E-4643-B0EE-14F826FE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462-B064-4608-AA39-5593632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2A5F3-0E4B-46D3-9D12-4E58C8E1EF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