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6573"/>
        <c:axId val="88974862"/>
      </c:barChart>
      <c:catAx>
        <c:axId val="3076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74862"/>
        <c:crosses val="autoZero"/>
        <c:auto val="1"/>
        <c:lblAlgn val="ctr"/>
        <c:lblOffset val="100"/>
        <c:noMultiLvlLbl val="0"/>
      </c:catAx>
      <c:valAx>
        <c:axId val="88974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6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E94-318C-4810-9EF2-A5B82E5C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43F-9FAB-41B7-9044-84FFB800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FCE-7E1B-422E-9848-39E9EAB4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3BE-737D-4A15-829F-57F8720F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11E0-CACE-46AF-814B-6A2F7ED1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BF8D-6396-4F7B-95F3-89F1D090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C17-18C6-49A3-A2AE-B01FAC48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148-8FAB-42BB-8BC8-57389268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1FE-DE81-4065-9DEC-FDBCC824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A7E-04FE-46DB-A113-D8C558BD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A0E-8C84-4083-B365-150BE6C5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BE0-5BBF-4CDA-89CC-7E566795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EF159-AE2E-4AA8-AE7D-C01AA2B79D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