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70262"/>
        <c:axId val="8671051"/>
      </c:barChart>
      <c:catAx>
        <c:axId val="34870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051"/>
        <c:crosses val="autoZero"/>
        <c:auto val="1"/>
        <c:lblAlgn val="ctr"/>
        <c:lblOffset val="100"/>
        <c:noMultiLvlLbl val="0"/>
      </c:catAx>
      <c:valAx>
        <c:axId val="8671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70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BF2-6E0E-476F-A968-3DB5ED8F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137-8F0F-45D4-B8C7-F1204165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4E0-8B38-4F2E-B1DD-7E4CADA1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9E8-4869-4F1A-813C-4B524385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2DA-F039-43EE-87B7-D3165700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BF7-F799-4643-9179-18E195ED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61D-EE7C-4F99-82A6-28BA22B2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668-0B83-41B0-A8C7-E895F524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6F5-CF33-48EE-9D1D-5D80302D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464-4C21-43FC-BCAA-432C3ED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C79-0546-4E30-A289-F5D0763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79D-5590-425B-BB6A-89592CC2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D8E28-4139-469C-B7F9-DAE99C7724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