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12444"/>
        <c:axId val="58572802"/>
      </c:barChart>
      <c:catAx>
        <c:axId val="88212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72802"/>
        <c:crosses val="autoZero"/>
        <c:auto val="1"/>
        <c:lblAlgn val="ctr"/>
        <c:lblOffset val="100"/>
        <c:noMultiLvlLbl val="0"/>
      </c:catAx>
      <c:valAx>
        <c:axId val="58572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12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200-4099-4DD2-9D8D-057E9AEE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0E4-B887-4990-BCB1-B825E895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AB7-E3BE-4FBF-A92D-87FC6539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4F3-6668-465D-911E-D86544B6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C477-6B88-4F7B-85FC-DDB9FB6F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EC5D-C27D-4166-ADBF-13264C5C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83B-7F3D-40DD-9E0E-71A9B851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728-CB19-4FFC-B519-A57B2DAF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C67-BE23-44F0-8F8A-E541AA81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3E6-DF6C-4176-8FF0-86951B43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206F-6242-487B-89AB-3782FB75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020-7450-4A27-BB56-F68955F2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D3498-CEFC-479D-94C3-F94BCE977A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