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131298"/>
        <c:axId val="17385137"/>
      </c:barChart>
      <c:catAx>
        <c:axId val="37131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85137"/>
        <c:crosses val="autoZero"/>
        <c:auto val="1"/>
        <c:lblAlgn val="ctr"/>
        <c:lblOffset val="100"/>
        <c:noMultiLvlLbl val="0"/>
      </c:catAx>
      <c:valAx>
        <c:axId val="173851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131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8374-A872-4B08-9C6F-D3BEBAF8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981-D7C9-4A88-BBEB-AA8EC22D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181-3411-4C4D-AB36-100B7F6B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C9A-64FD-478E-8A2B-32F4CCC2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DA47-9883-4FB6-8D0A-B87A1446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B80-2886-4DAF-8479-CB9FC776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5E7-9CD1-4A12-A497-964CF4BF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A06-E072-4152-B7B3-68D79D56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A217-F65B-480C-81C8-0571C887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43D-836D-4C1C-B8DB-2F57152A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607-B95A-475A-84D6-78AEEC43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F9C-3004-40A4-8CFF-EDAE1FB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93B1F-8878-4605-ACCC-5E0DDAC9D3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