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500569"/>
        <c:axId val="37130120"/>
      </c:barChart>
      <c:catAx>
        <c:axId val="345005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130120"/>
        <c:crosses val="autoZero"/>
        <c:auto val="1"/>
        <c:lblAlgn val="ctr"/>
        <c:lblOffset val="100"/>
        <c:noMultiLvlLbl val="0"/>
      </c:catAx>
      <c:valAx>
        <c:axId val="371301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005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FC5D-AF9D-4C2A-AC8A-9B39D8C17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0A44-3225-4505-9742-F23FAA5E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97FC-E46B-4579-AE73-36CC28186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6118-54F0-4EB1-AD9B-268F545B5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F985-1D1B-4BAF-946A-84D08F83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2EA4-75A1-4E4B-A500-859B8BC7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FDA7-F692-43C2-B748-B0843C92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1201-C815-4692-B76B-28A6FAAC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8378-5075-4A7A-9A32-8AA2EFE5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6FA4-3DA0-4F89-AC9E-EE268BA2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EA6F-0F8E-4BE0-B949-941B077E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CE03-99E5-442F-807A-C3887B3B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60A4F-581D-4BB0-8DBB-96E8EFB037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