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746995"/>
        <c:axId val="69188801"/>
      </c:barChart>
      <c:catAx>
        <c:axId val="877469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88801"/>
        <c:crosses val="autoZero"/>
        <c:auto val="1"/>
        <c:lblAlgn val="ctr"/>
        <c:lblOffset val="100"/>
        <c:noMultiLvlLbl val="0"/>
      </c:catAx>
      <c:valAx>
        <c:axId val="691888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469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F616-5035-47B2-A964-89603CDA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69FF-24EC-4D91-8ADF-27DD2F3B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ABE5-7C44-4019-A41B-C5C24587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3984-0F7E-4A33-B903-70FD62DBA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9A89-9372-450E-9113-8B678261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1E7B-E30B-427D-9452-33786A70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DE2D-9B36-4947-89FA-70F2AD59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5668-0FAD-441D-AD50-70A389F5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DEB5-4E76-4BFE-8797-35431E26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F51D-BF3C-4C00-A4CF-619545B8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812B-6EB2-4DC7-B498-70A138D1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57E5-96BE-4F8D-A831-C96B10B3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9F79A-A31A-433C-B37D-A6475335C8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