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18797"/>
        <c:axId val="95613386"/>
      </c:barChart>
      <c:catAx>
        <c:axId val="68118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13386"/>
        <c:crosses val="autoZero"/>
        <c:auto val="1"/>
        <c:lblAlgn val="ctr"/>
        <c:lblOffset val="100"/>
        <c:noMultiLvlLbl val="0"/>
      </c:catAx>
      <c:valAx>
        <c:axId val="95613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18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A5D-D12B-4E80-8045-6FAF9D25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516-6CDC-400A-AC3C-03B047CE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202-3063-4362-8391-5F56A5F7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8CF-90D3-462C-B100-CB1115B0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5E8-713B-4614-BC83-F5CD3241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361-1217-4E54-9ECF-E4850B6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3E5-56EA-4601-AAD2-63D5344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825-316A-41CD-8856-36A1530B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D2F-75ED-45AE-BF85-5A43A9DC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0E0-B57D-4CD4-A4D4-A1FF792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F37-E91E-417B-9A71-3ED6B738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A47-8D28-4EDE-A1B2-10169B0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1595B-1608-40CE-A23E-DD6781BBAC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