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411805"/>
        <c:axId val="56898732"/>
      </c:barChart>
      <c:catAx>
        <c:axId val="904118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898732"/>
        <c:crosses val="autoZero"/>
        <c:auto val="1"/>
        <c:lblAlgn val="ctr"/>
        <c:lblOffset val="100"/>
        <c:noMultiLvlLbl val="0"/>
      </c:catAx>
      <c:valAx>
        <c:axId val="568987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4118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7C09-1CA8-4755-B49C-26A87CDAE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0DFE-13FC-4797-BFCE-D4F61B2CE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9479-17B3-4185-9624-8BEC551F8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4929-2E25-4793-B9C7-DDBE70396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B6C5-AC7C-41D1-815D-931A69164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370F-94A5-44D4-9A9C-D3032FEF1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2ED5-EBD9-4F76-BB6E-C284E7861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F896-6F4B-43D5-89DF-5A4F7CB48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4655-E628-4912-BDF2-66393574C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D112-C440-4660-812F-1F4A1920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9C48-6E44-471A-B98A-798830E7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E941-CF65-4560-B8FF-313CD6E4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B4F0C0-743C-42E8-A3DA-77846999D63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