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7639"/>
        <c:axId val="41610878"/>
      </c:barChart>
      <c:catAx>
        <c:axId val="4477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10878"/>
        <c:crosses val="autoZero"/>
        <c:auto val="1"/>
        <c:lblAlgn val="ctr"/>
        <c:lblOffset val="100"/>
        <c:noMultiLvlLbl val="0"/>
      </c:catAx>
      <c:valAx>
        <c:axId val="41610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7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5BA-C4F9-4F9B-9FC3-74E3467D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114-3629-400D-AFC4-99B2EBF4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6EA-11BE-4F48-9E43-096D08CA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72D-0C58-4641-A0A6-C14A1331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3A3-5F9D-47B5-BD9C-35513F76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44A-7D06-4336-B66F-6FD46076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A49-8059-4F62-96A8-F0F77C35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38C-5831-4E2F-BBC7-099AFC43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6E7-2004-488F-9FBD-24356B15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DEC-C5DC-4197-BFB4-A6A5EE9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8CC-9912-48AC-B384-F53A701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351-E4E4-439E-A9A5-5F7B92CB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B9419-F67F-404A-9653-524FB71918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