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12962"/>
        <c:axId val="15232213"/>
      </c:barChart>
      <c:catAx>
        <c:axId val="739129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32213"/>
        <c:crosses val="autoZero"/>
        <c:auto val="1"/>
        <c:lblAlgn val="ctr"/>
        <c:lblOffset val="100"/>
        <c:noMultiLvlLbl val="0"/>
      </c:catAx>
      <c:valAx>
        <c:axId val="152322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129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838F-9E8C-4176-B76F-2D9D467C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3A7-48CB-412A-931B-F46138BC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950-D392-48D5-878B-452DA347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5C52-B59E-4E5E-990A-A431446A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AFDF-B338-479F-A6C5-BC50AE6C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2BE-D7DC-4432-8F6A-8F56C7CA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09B6-175E-4697-914E-A7A60B5E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14C-38DE-42A8-BA7D-2B1ED8BC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24D-E1D3-48E5-B96E-35E02836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9A4-64BE-4B60-9FAF-8441B038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6984-1600-4E50-8E05-F19D8EEF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1B0-7815-4DF0-8568-B9DD2AA9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71AF3-96E9-43BC-A3B9-719A84ECEA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