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271404"/>
        <c:axId val="18373420"/>
      </c:barChart>
      <c:catAx>
        <c:axId val="70271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73420"/>
        <c:crosses val="autoZero"/>
        <c:auto val="1"/>
        <c:lblAlgn val="ctr"/>
        <c:lblOffset val="100"/>
        <c:noMultiLvlLbl val="0"/>
      </c:catAx>
      <c:valAx>
        <c:axId val="18373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71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8B7-29E0-4E0E-8E76-388978C8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31F-2D6D-4F66-BE0F-7212B127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078C-142D-41D5-9920-4B7C1058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AD6-70C3-4E7E-8905-331294F1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C8B-ABE1-4664-B6EA-06E1D495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151-AE6B-44F1-94B6-C522D4AE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3E5-CCFC-4B9E-B5CE-F02C589E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F214-B0B9-4065-BD2D-6CB6DCD4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0444-7025-4CB7-9636-9C466F5D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D23E-58F0-497A-B927-6E41EDB7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FFD-8FC9-4D0C-858A-DA60765C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3D6-EBC8-4953-AB03-62150E5C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1385B-3EEC-45AA-AFA3-CAE88F49AA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