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12407"/>
        <c:axId val="44381441"/>
      </c:barChart>
      <c:catAx>
        <c:axId val="72812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81441"/>
        <c:crosses val="autoZero"/>
        <c:auto val="1"/>
        <c:lblAlgn val="ctr"/>
        <c:lblOffset val="100"/>
        <c:noMultiLvlLbl val="0"/>
      </c:catAx>
      <c:valAx>
        <c:axId val="44381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12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B5F-F4D8-4859-81D9-BC4B8786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85D5-A493-40AE-93A4-F0A0DA02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552-00C7-4015-91F1-57C615E1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42A-60A8-49CA-A56A-CD1852AD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CBD-4F3E-479F-A821-42D4A5FB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7F2-1E76-4B26-BE82-792C18AD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A24-2D7F-4D71-A6D2-69744D56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A2E-0FC1-4B51-B899-312817B0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819-C535-488E-A0ED-DF0A5B25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C47-4F4B-4790-849C-DFF1EBBA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A9A-2D3F-420F-BB07-FFAE655B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3CF-9A45-402D-BC10-1AF078C4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61E1E-F8E2-4A9B-BCBF-CE5B48EF83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