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73702"/>
        <c:axId val="66705673"/>
      </c:barChart>
      <c:catAx>
        <c:axId val="46873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05673"/>
        <c:crosses val="autoZero"/>
        <c:auto val="1"/>
        <c:lblAlgn val="ctr"/>
        <c:lblOffset val="100"/>
        <c:noMultiLvlLbl val="0"/>
      </c:catAx>
      <c:valAx>
        <c:axId val="66705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73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443-6B88-448D-87FF-F6876FA8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5F8-B583-462B-A959-04B8FE6F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C5C-4401-4114-8018-E9AFB73D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59B-0629-48DB-B510-457BB7F0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BEF-810D-4901-AA7D-8F412F96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760-7EF8-4A62-B79B-2FA5F20E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CB6-A9C8-47D7-A632-6A04470C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F90-016A-4698-AE5E-547EE073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5B1-F3A6-4BBE-A72A-07179285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1C18-D651-43E6-A7E3-F6856A85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1CA8-6723-4E1E-AB54-CD73D611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0D1-A572-456D-9C5A-8D3EEB27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C94E8-C3F3-4B1B-A57E-ACD1DDDC42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