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582494"/>
        <c:axId val="58008342"/>
      </c:barChart>
      <c:catAx>
        <c:axId val="14582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08342"/>
        <c:crosses val="autoZero"/>
        <c:auto val="1"/>
        <c:lblAlgn val="ctr"/>
        <c:lblOffset val="100"/>
        <c:noMultiLvlLbl val="0"/>
      </c:catAx>
      <c:valAx>
        <c:axId val="58008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82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B19D-076D-4191-84DD-5678C994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4AF9-3A01-44DD-BBAB-8C3B9065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C62-EE09-4FCA-9CF4-497D834D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DD2-D9D4-4280-B356-B1CDA336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421-8F1D-448E-9B48-CB78DE1D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C36-6F5C-43B4-8B4A-93335DA0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7F60-A7AD-4488-854F-5B922475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30A-3F1A-4FB9-8884-AAC7F0F8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7946-C0A6-409A-8AE2-985062E6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64B6-6385-4439-B338-4CB90E40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7E61-BC94-467C-8B57-971A9BBC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CBDC-1E7C-450C-84F5-F0679346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04D32-D139-4376-899C-CE8E8C0757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