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22469"/>
        <c:axId val="99215061"/>
      </c:barChart>
      <c:catAx>
        <c:axId val="7282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5061"/>
        <c:crosses val="autoZero"/>
        <c:auto val="1"/>
        <c:lblAlgn val="ctr"/>
        <c:lblOffset val="100"/>
        <c:noMultiLvlLbl val="0"/>
      </c:catAx>
      <c:valAx>
        <c:axId val="99215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2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D20-888B-448A-977C-F9EBA1C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D6-7D09-4D6E-9478-6DB8C59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E13-2381-41B7-93C7-8E77D743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D4C-6FDD-474C-8BC9-90F8FCC5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F98-FD17-45E7-AD82-734A5C6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D01-63E2-49A7-A1F3-33D2E65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359-B6C9-488C-81A9-B68E2F26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E27-84E5-4BC8-96AF-C6A72373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D1-8A89-4BDB-847D-34394AF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C45-EE26-44D7-8DFB-975119D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E6B-81A4-4C80-9F0E-2EB42E4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9C2-0338-471F-ACE8-AB06185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5E6E4-0F64-44F1-AC8B-765549D55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