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68167"/>
        <c:axId val="36868023"/>
      </c:barChart>
      <c:catAx>
        <c:axId val="10668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68023"/>
        <c:crosses val="autoZero"/>
        <c:auto val="1"/>
        <c:lblAlgn val="ctr"/>
        <c:lblOffset val="100"/>
        <c:noMultiLvlLbl val="0"/>
      </c:catAx>
      <c:valAx>
        <c:axId val="36868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68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DAF-62C7-483C-BDA5-1CCD7E45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8F0-1F50-442E-9113-2EA0387E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DC5-995F-4C2A-A562-A05846DF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CD6-6E8E-4C82-98CD-09E2B0E3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4DE-D7AF-4B57-8F9B-278BD6F0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295-689F-4355-A63D-AAD00351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DF9-0405-436C-841E-E45F995E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337-7DC5-4828-9DD1-4DD29C88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D72-1B6B-4633-809B-2F9BF63C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0F0-1C1F-4B42-A6D6-4ADB58A3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976-EA65-48AD-9D33-EA4BC8AE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4DD-CB83-443F-9D72-49A8D06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B044A-F457-4ECD-AA48-7335250CC9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