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74658"/>
        <c:axId val="4500075"/>
      </c:barChart>
      <c:catAx>
        <c:axId val="26074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0075"/>
        <c:crosses val="autoZero"/>
        <c:auto val="1"/>
        <c:lblAlgn val="ctr"/>
        <c:lblOffset val="100"/>
        <c:noMultiLvlLbl val="0"/>
      </c:catAx>
      <c:valAx>
        <c:axId val="4500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74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F7D-EFAF-44B1-A464-4BC795EE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7C3-C3B4-4C38-B290-B001D673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530-E1CA-49A3-93CF-18DF584F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D90-0C26-4696-9B06-63C6FBEA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AA5-04C3-4E78-B434-564CB805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1AF-363A-4EC7-8022-157C2D91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D1E-6306-4069-B5C3-7E730552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8AF-24B2-478D-B47E-4F7FE849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8FD-DD60-455E-A0A1-CFFA481D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5FD-5C6B-45CA-BB8B-2428A880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1B1-B0CE-4C68-A534-AC691E5C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8F2-CB23-41BE-8EB3-ABDDE106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EFAF4-6EDB-4AAB-A634-AA8F311B34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