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78857"/>
        <c:axId val="3411963"/>
      </c:barChart>
      <c:catAx>
        <c:axId val="423788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1963"/>
        <c:crosses val="autoZero"/>
        <c:auto val="1"/>
        <c:lblAlgn val="ctr"/>
        <c:lblOffset val="100"/>
        <c:noMultiLvlLbl val="0"/>
      </c:catAx>
      <c:valAx>
        <c:axId val="34119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788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3C6E-F56F-4F23-B075-65F63BE9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795-8564-4308-B446-2DD2AD0A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775D-803B-42B7-9E6E-EDEC41AF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0CD-F42E-4E43-AAAD-054B61B8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8F8-5B7D-464A-ABEE-1C11140A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72E7-4FE5-466E-B717-82B7D631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6E37-D50A-4BB8-9468-E2F71D0F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5044-7B9E-4761-9B6D-F7A3097A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3D9D-CFA9-4EA4-B8A5-32829534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751E-89E5-4E50-8DF7-737EB129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2FF2-CF62-466C-9ABF-84626B77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BA8C-6A5E-4852-819F-AE2BD125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B9FC2-221D-4C69-B6BA-4E260C6EAE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