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64524"/>
        <c:axId val="44143377"/>
      </c:barChart>
      <c:catAx>
        <c:axId val="21564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43377"/>
        <c:crosses val="autoZero"/>
        <c:auto val="1"/>
        <c:lblAlgn val="ctr"/>
        <c:lblOffset val="100"/>
        <c:noMultiLvlLbl val="0"/>
      </c:catAx>
      <c:valAx>
        <c:axId val="44143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64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34C-FD7D-4B12-BE53-AEB51693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B55-02F1-46B7-8B75-663579AF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136-BB39-4BCE-830A-C4CE7DEF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DFD-4D23-454C-BAEE-53B7F6E1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253-A71F-486B-A801-EBDDAF05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A3B-D7CD-4F82-AE1F-2857476D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FCC-CB78-445F-A0BD-1C249FC0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697-A3A1-4681-AB98-47EEB2CF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EDA-005D-43AA-9B32-032E8F9E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7EE-4E96-4691-9CF1-618D422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795-4234-4B49-8E02-D1F98DB7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FBB-3B1F-435F-B850-ED6DD47F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5B692-94C4-4CB4-B010-C5C860AF97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