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82832"/>
        <c:axId val="23064362"/>
      </c:barChart>
      <c:catAx>
        <c:axId val="65682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64362"/>
        <c:crosses val="autoZero"/>
        <c:auto val="1"/>
        <c:lblAlgn val="ctr"/>
        <c:lblOffset val="100"/>
        <c:noMultiLvlLbl val="0"/>
      </c:catAx>
      <c:valAx>
        <c:axId val="23064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82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6F8-F92E-4F1B-B7D1-E513499D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A66-353A-421F-A2F2-A06816D8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691-256F-46A2-A589-63E09B4B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25E-5472-428C-934D-BE0839AE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66C-1E89-4DB2-B3EE-60CBE481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050-88A4-4D08-8459-6BEF6225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895-CD1B-416A-8127-148A10EF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A7B-7479-4D38-A93F-DA78B9A5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2C6-06DB-4292-8830-25C4DEBE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E82-DEDA-48C9-8FEF-5CEC684B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841-AE05-432B-AC42-C4850851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6BF-A412-407B-8810-D3DD2C39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27BEC-2D84-4A82-82B9-34D73A142E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