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10216"/>
        <c:axId val="30310532"/>
      </c:barChart>
      <c:catAx>
        <c:axId val="86610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10532"/>
        <c:crosses val="autoZero"/>
        <c:auto val="1"/>
        <c:lblAlgn val="ctr"/>
        <c:lblOffset val="100"/>
        <c:noMultiLvlLbl val="0"/>
      </c:catAx>
      <c:valAx>
        <c:axId val="30310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10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CC2C-8F1D-4DE0-8A01-E09BF7F7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D691-1590-47E6-9812-3B29C148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1C8-CAB9-41C2-9847-BE753912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40C8-B2B4-400F-9366-8855C728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953A-D7BD-4E3E-B54C-622A6A8F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2F03-F95E-43E4-935B-57BDE346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041-08C0-4BFB-B69E-2A23DE48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A00-8859-4E17-903F-942E5478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34E-3F2A-4B43-A8FD-5970AF29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975B-8F5E-49E3-BC42-B5241F86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F0E-1147-4206-A733-E8193EBB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FE5-B985-4FD7-951E-3C5E7A0A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EFF76-3001-4B5E-AC84-7666146131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