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75609"/>
        <c:axId val="14938726"/>
      </c:barChart>
      <c:catAx>
        <c:axId val="70975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38726"/>
        <c:crosses val="autoZero"/>
        <c:auto val="1"/>
        <c:lblAlgn val="ctr"/>
        <c:lblOffset val="100"/>
        <c:noMultiLvlLbl val="0"/>
      </c:catAx>
      <c:valAx>
        <c:axId val="14938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75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DB0-5CED-44E1-907F-AA65B0FE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EE9-1465-431A-BA20-346479A1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655-E431-4C7F-A8B7-73223BDF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343-9A85-483C-A086-B68397C3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F3B-87E6-466A-9947-ED500FFC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304-BC76-4667-BDDE-3202F785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D40-4440-4359-B5D1-A18C2FCA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2E3-467D-42ED-9218-048A3486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5E3-0884-4AB0-B8DD-0FC90A84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930-1C14-4F01-9810-C8659E1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FE1-6412-4F22-BA23-51023AB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540-DCC0-4F9B-B5C6-BF26F2A2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83DE0-3C8A-48B3-B71A-78B5A5244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