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68274"/>
        <c:axId val="71997901"/>
      </c:barChart>
      <c:catAx>
        <c:axId val="91668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97901"/>
        <c:crosses val="autoZero"/>
        <c:auto val="1"/>
        <c:lblAlgn val="ctr"/>
        <c:lblOffset val="100"/>
        <c:noMultiLvlLbl val="0"/>
      </c:catAx>
      <c:valAx>
        <c:axId val="71997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68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D3C-1130-4C97-A16D-8ACF5CCB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D4A-40F4-4738-BD1E-03F78345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C7D-451C-4ED0-B57A-437AF90D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652-B31A-4120-A47F-E9E69210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146-C46C-46F2-9131-C1378969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838-26EC-4CE8-B5C2-36D0EF64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F03-5D1E-4752-80BA-ACFA4930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166-D43D-4E9E-8564-10E09012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96F-45E3-4CAB-8793-BC78197D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76F-6D6E-4AA1-A63F-31938A4A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176-1B70-437A-874B-E76EA47A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22A-5E50-4A78-B3F5-E5D4364E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C9787-ED8D-4D2B-9D25-D500C126A2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