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92791"/>
        <c:axId val="69376026"/>
      </c:barChart>
      <c:catAx>
        <c:axId val="88792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76026"/>
        <c:crosses val="autoZero"/>
        <c:auto val="1"/>
        <c:lblAlgn val="ctr"/>
        <c:lblOffset val="100"/>
        <c:noMultiLvlLbl val="0"/>
      </c:catAx>
      <c:valAx>
        <c:axId val="69376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92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53A-6CDB-4400-91B3-B42FB30F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B353-93C6-4EC0-B370-E3B965FD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486-D3F1-4F3F-A4D9-807897F1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1F0-F595-4E7B-BDA0-EB8F9D76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99F-77EF-4B72-B7DB-2DECE9EB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FCD-1DFA-4038-9FC9-AAFCB654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303-484F-4932-987F-5526F2BD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02E-9282-47A7-B46B-0C335964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0C3A-32A5-4763-8195-47C320AC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79A-9269-4755-AAD6-E1534DA0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CAFB-C1ED-480C-B981-A5246968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A263-BD31-4DE1-B127-CD1DA217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1ADB7-32D1-43C5-8237-B9BA698AE1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