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34509"/>
        <c:axId val="2041958"/>
      </c:barChart>
      <c:catAx>
        <c:axId val="81034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1958"/>
        <c:crosses val="autoZero"/>
        <c:auto val="1"/>
        <c:lblAlgn val="ctr"/>
        <c:lblOffset val="100"/>
        <c:noMultiLvlLbl val="0"/>
      </c:catAx>
      <c:valAx>
        <c:axId val="2041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34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A87-9362-46C4-80B0-1938ED12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8D2-02A3-4E23-A0EB-A853B221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831-2A50-4F3E-9F79-8EBEA46E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9C0-BB77-44B6-B3F3-C69B8D48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6D1-508F-4854-969C-1F77F4D3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929-1C59-4213-9280-8FE16DD1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B4A-9C63-4C4B-81A1-648613CA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864-CD3D-4CEE-89D7-6632D314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61C-5CCF-4977-8FA1-1700BF8D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AA6-86BE-43FC-A36B-449329FB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21B-DCBB-4ED3-80EA-A7DB96B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B70-DB07-4FE8-8D93-196189AF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AF68D-8D89-4A1E-9012-795F6EA5A9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