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44224"/>
        <c:axId val="71603966"/>
      </c:barChart>
      <c:catAx>
        <c:axId val="25944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03966"/>
        <c:crosses val="autoZero"/>
        <c:auto val="1"/>
        <c:lblAlgn val="ctr"/>
        <c:lblOffset val="100"/>
        <c:noMultiLvlLbl val="0"/>
      </c:catAx>
      <c:valAx>
        <c:axId val="71603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44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F4B-27E7-4F3D-A40F-87657AE7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C48-1A20-44DB-AE13-9A6CF8C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66E-DF53-4DEA-95CB-CBE99CD5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7A9-F06F-4E9C-9E7B-7E465A9D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995-EA00-4119-B9B2-78A92E5F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DD2-50F3-4158-B450-D974921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623-2A7A-4051-B668-3547A706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F85-985A-4501-8671-A896E90B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EAC-D24D-4DA6-A885-5D8AADC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7ED-DAD4-44C2-A5C4-7AFB1CBC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725-E8B4-4B14-8A0E-CA90FCE8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856-1C48-4EB8-8A22-CE00EBD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57F3E-59DE-4072-BF39-D54A9A34E9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