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63417"/>
        <c:axId val="60712537"/>
      </c:barChart>
      <c:catAx>
        <c:axId val="48963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12537"/>
        <c:crosses val="autoZero"/>
        <c:auto val="1"/>
        <c:lblAlgn val="ctr"/>
        <c:lblOffset val="100"/>
        <c:noMultiLvlLbl val="0"/>
      </c:catAx>
      <c:valAx>
        <c:axId val="60712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63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58B-0665-458E-A02A-A6A8CAA4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AC7-98C3-4F54-9C78-9F3F2D3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D90-4DC1-4BE0-A0D4-58BBA7FA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C0E-0E4C-40F7-BC9D-969F0491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6DE-E227-4759-AC24-FADCAD43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83F-3EB6-457A-8C56-141278D1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08E-E860-4D07-B8D4-70CF343B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41A-8F3E-4802-9303-8938F63E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A5A-637E-4E62-91F2-C305687D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169-1017-4726-B713-EA0AAFF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75D-27FC-41EA-B3DF-D594A62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FA4-CC1C-48B5-BE79-F81F4C8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530E7-B227-4831-A29A-25AE1424D7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