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64145"/>
        <c:axId val="13986212"/>
      </c:barChart>
      <c:catAx>
        <c:axId val="63641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986212"/>
        <c:crosses val="autoZero"/>
        <c:auto val="1"/>
        <c:lblAlgn val="ctr"/>
        <c:lblOffset val="100"/>
        <c:noMultiLvlLbl val="0"/>
      </c:catAx>
      <c:valAx>
        <c:axId val="139862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641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9622-4B46-496E-AD63-83DA8B51E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FCF7-D211-4155-AD54-268C34BEA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8E7C-ADAA-4F34-8EDE-4772FA673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0930-1AF4-4DEC-860A-DDF6F2122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E95C-9DE2-4617-AE60-45D8073BB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1D4A-C83F-4AFE-B8F9-A2A2806B4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E179-0035-40A1-A0C2-AFB2C3006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A910-0A1F-4561-B51B-4F915DF9C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7C6A-F6CA-4948-B741-3F26F2A63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2ED6-37FD-4639-A458-AB56543B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DA60-892A-4955-B39B-73B29247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6DD8-9532-4E90-8DD0-93DF8509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03A825-3FC5-4516-B5F7-7E2C112BBD1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