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93837"/>
        <c:axId val="23826643"/>
      </c:barChart>
      <c:catAx>
        <c:axId val="18593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26643"/>
        <c:crosses val="autoZero"/>
        <c:auto val="1"/>
        <c:lblAlgn val="ctr"/>
        <c:lblOffset val="100"/>
        <c:noMultiLvlLbl val="0"/>
      </c:catAx>
      <c:valAx>
        <c:axId val="23826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3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B82-5CA9-493F-B24B-78140437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E1A-CD76-45F1-AE8C-E48EF007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68C-6F90-413A-BAB7-9F80FCF4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66A-768A-4108-A700-B88D9BEC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67D-DB04-40F3-8151-A01F0E18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866-6286-4BE0-BB7F-2B89D8F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53A-B262-4686-AE6F-C92581E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E06-3E8A-4232-8F8B-F021D00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C71-531A-4A17-A7BC-746E4876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A82-33CF-436C-BFB1-3C54843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372-26AE-45E3-81BE-415A53A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44D-D743-4F91-81B1-BF86457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99F06-0992-4C41-99D5-2329C9681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