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57405"/>
        <c:axId val="87914892"/>
      </c:barChart>
      <c:catAx>
        <c:axId val="60957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14892"/>
        <c:crosses val="autoZero"/>
        <c:auto val="1"/>
        <c:lblAlgn val="ctr"/>
        <c:lblOffset val="100"/>
        <c:noMultiLvlLbl val="0"/>
      </c:catAx>
      <c:valAx>
        <c:axId val="87914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7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69D-3833-46B8-869A-BEDF052C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CA3-7C25-4A96-9ECD-4960761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5A4-E6D9-431F-9134-B0EA81F5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966-C904-4D50-BE53-6DE603C4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E60-E918-488C-9160-7F3AED50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47A-445B-4E1E-BB27-27DB0D3A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F03-28DE-4117-833A-70B3545F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F17-514F-47A2-AE18-914C3AA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52A-E3BB-4892-9EC3-746C19F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820-68AB-49CD-B906-4FB4C51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93C-52E7-4E0B-90D8-AB8D2CA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C21-F79E-488E-BA6B-084910E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3DD06-4F5D-4D59-BA33-BF0DCA252D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