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74646"/>
        <c:axId val="16599759"/>
      </c:barChart>
      <c:catAx>
        <c:axId val="20974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99759"/>
        <c:crosses val="autoZero"/>
        <c:auto val="1"/>
        <c:lblAlgn val="ctr"/>
        <c:lblOffset val="100"/>
        <c:noMultiLvlLbl val="0"/>
      </c:catAx>
      <c:valAx>
        <c:axId val="16599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74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6A9-B50F-4500-91FA-52DB8344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B0A-94EE-4537-8338-60302907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ACF-FDC8-4E00-A9AD-DD78E016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F99-7DF6-4F45-B2C8-126764E0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F4E-3857-4598-93EB-829783E2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13B-455C-4F38-963E-F1DD560C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FDF-F6CA-4165-9EBB-11F410E5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F6C-317A-4497-9D0A-ECF7696A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F53-D08D-4920-B772-6F06B24B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9BA-0DB4-4B95-8FA6-CBA295DD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BE8-C8E5-4EEA-893F-26788CD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7A0-73E1-4D78-92C5-25E3042A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96E0E-9545-4F59-A5D3-938DD34754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