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703589"/>
        <c:axId val="38659318"/>
      </c:barChart>
      <c:catAx>
        <c:axId val="247035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59318"/>
        <c:crosses val="autoZero"/>
        <c:auto val="1"/>
        <c:lblAlgn val="ctr"/>
        <c:lblOffset val="100"/>
        <c:noMultiLvlLbl val="0"/>
      </c:catAx>
      <c:valAx>
        <c:axId val="386593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035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6CF-6B1B-4656-9342-19558824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61D-905C-4043-B282-EAF8CA92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7C4E-0956-4CE8-A5E1-6BD7DC2C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29D-B556-4F9A-9809-5A48A923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C291-4031-476D-9D03-2366438E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1484-47A4-4CDE-8A14-512DBD8E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C0A3-BD2B-4C90-B4FA-DBCAB9D0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A890-D19C-4A8C-96CD-85DACCC1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4282-3897-45B9-AC28-A948A1FB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04A5-FC0C-4763-9209-92B518D7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96A-A22C-4730-84EC-A336BA30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27A3-9D0D-464B-8E07-81526A8E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79EDB-39AB-4BA0-935B-29E2E6E381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