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00827"/>
        <c:axId val="99482448"/>
      </c:barChart>
      <c:catAx>
        <c:axId val="57800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82448"/>
        <c:crosses val="autoZero"/>
        <c:auto val="1"/>
        <c:lblAlgn val="ctr"/>
        <c:lblOffset val="100"/>
        <c:noMultiLvlLbl val="0"/>
      </c:catAx>
      <c:valAx>
        <c:axId val="99482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0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BD2-3EBD-4C19-9D04-46E3E0EC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DF3-2D17-4BBF-A5D1-A6E51837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93C-2242-4E21-B628-216E38BE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F13-6B79-41FE-BCFC-F00FB3D6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4FD-3EE8-45A9-8FBB-F7998591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21D-030F-4BF2-AB67-469C771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E43-9016-42D9-8026-5BA6101C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BB4-4A71-4064-A461-421C5566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241-83D9-459D-86DD-58BFC924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E47-32F1-4A07-9A4F-5B796E5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C5F-0252-4202-B6D9-93DF18F3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C43-2119-43CF-AD06-1E63C7FA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839A9-96F7-4902-8BCA-887C4FAC1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