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32986"/>
        <c:axId val="70135431"/>
      </c:barChart>
      <c:catAx>
        <c:axId val="19532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35431"/>
        <c:crosses val="autoZero"/>
        <c:auto val="1"/>
        <c:lblAlgn val="ctr"/>
        <c:lblOffset val="100"/>
        <c:noMultiLvlLbl val="0"/>
      </c:catAx>
      <c:valAx>
        <c:axId val="70135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32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983-EDF2-427D-99F5-5CBB961A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AFE-C3EF-46EE-B69F-2620A93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BEF-188B-4AFD-B587-A57283DD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F2C-873F-4888-8364-D13BB8EE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561-4A92-4729-B2C5-664EA49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986-EB30-4C47-A8AE-BFF4F6A2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AD9-E698-4386-AFEC-04ED6B80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70E-3A6E-4B75-AE14-3EE3A65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0EA-18B2-4DF6-96DC-10515ACA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2CB-8175-4BB9-A56E-1931411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3C9-86C3-4F84-9605-2EADA3F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0B5-C24D-4C38-9FD8-AB1AF21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3A923-4CD7-41D6-8D9E-01A134F34E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