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81983"/>
        <c:axId val="50154785"/>
      </c:barChart>
      <c:catAx>
        <c:axId val="93781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54785"/>
        <c:crosses val="autoZero"/>
        <c:auto val="1"/>
        <c:lblAlgn val="ctr"/>
        <c:lblOffset val="100"/>
        <c:noMultiLvlLbl val="0"/>
      </c:catAx>
      <c:valAx>
        <c:axId val="50154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81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3E8-892A-447C-A0C8-DBC5B843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AB1-2238-4354-B79B-0589215D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AA9-ADC2-4464-A6A0-5C155B26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A3E-E824-4590-8411-A76FA1A0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01E-711E-4732-9B92-0056654F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01E-4124-4EBC-A9ED-98220D49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0AF-8E46-49D3-9D86-BBC85B34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2BD-9516-451E-B5CD-72917FD0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031-B402-496C-8EF2-91727711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78D-5DE9-4954-BC69-C3D788F5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BBB-75C2-4BA6-B372-FCE5A91A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051-A781-4B37-A0E1-D90E3131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2D13A-A52B-429E-AAB4-F50E67FF82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