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57289"/>
        <c:axId val="15945019"/>
      </c:barChart>
      <c:catAx>
        <c:axId val="53572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945019"/>
        <c:crosses val="autoZero"/>
        <c:auto val="1"/>
        <c:lblAlgn val="ctr"/>
        <c:lblOffset val="100"/>
        <c:noMultiLvlLbl val="0"/>
      </c:catAx>
      <c:valAx>
        <c:axId val="159450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572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EEE8-E095-41FF-959F-D9E8CD345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D355-EA64-49F1-9442-F9DFB19D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7210-A92D-4BBF-93BC-82D1606CC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5221-FB9D-4AE0-8AA2-14A831EC3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B829-36CE-4C16-98D6-518859D9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0ED8-FFEC-46C2-B042-BC49E144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70AA-9B00-4556-8F98-E40CA7C9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56CE-284E-4710-A1B9-B4F1CCE3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3D45-414B-49FD-A916-3DD16E6C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4261-4742-4795-B7B2-D79D729D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CF0A-10CA-4FA8-B9AF-4583A5AE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7F67-4023-4291-881C-F276D838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CEB95-4BC3-4578-9662-3EF98A73D3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