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71214"/>
        <c:axId val="676082"/>
      </c:barChart>
      <c:catAx>
        <c:axId val="65171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082"/>
        <c:crosses val="autoZero"/>
        <c:auto val="1"/>
        <c:lblAlgn val="ctr"/>
        <c:lblOffset val="100"/>
        <c:noMultiLvlLbl val="0"/>
      </c:catAx>
      <c:valAx>
        <c:axId val="676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71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57E-1037-4BA8-947A-B8DD065D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490-4F0E-460B-895B-D1B3A699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053-C25E-425D-90DD-5C5A02F9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E3C-3566-4585-AB6E-CEC703CC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F9C-E48E-454E-9492-DB87CAD2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9F8-E7E0-4CE7-83D3-A0F3210C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54E-4CC2-4ADA-9CAE-C5C04718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090-2914-433F-8ED2-A0BDDAB9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D2D-526D-4E30-904F-B0E1C4A1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D99-87FB-41EA-A265-42B0CBC5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ACA-FF6A-4D10-9047-7598D46F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37C-B7CB-4E12-B146-5FDD9F87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89190-FE1B-4B5D-87FE-B412D30701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